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F82E-7D84-44B7-BA28-39701C454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68BA-E869-41E0-A84F-E6D33E77E4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яева 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Б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241-79B4-4CE0-A1BA-A6D4A17E1E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биения сосуд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8E2A-7CB0-497A-8098-36BB6AE3BC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тверждающее правильность выводов Фридм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6B87-331F-4AB8-BC7C-AB3819A0ED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ая эволюция Вселен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14F9-7447-451D-846D-8032A5F57E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агалакти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05BD-B1E5-4982-A77D-B208D970A1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FBF7-B795-432E-88D9-5DA9067A36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ядерную капл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788D-E257-4D4B-8E3B-1B5FACCBF1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и Происхождения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: «Бесконечно пульсирующ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«Разбиение сосу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EF87-58DA-4E08-896C-5A662E6F29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4321-72DB-4FF2-AC6F-37100017BD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и образовывать сгущения и из них образовались звез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при взрыве новых и сверх новых зве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нагре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нее раскаленный). Остывший – земную к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A55D-8DFD-4980-8DB8-6546522959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 пульсирующая Вселен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8009-D665-4780-AE54-56A623172B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C4A3-027B-4AAA-B331-6E87814B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75D8-60C1-450E-9B40-E1386DBD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87D1-9294-4C98-8EFC-743983E4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C701-9DAD-42D3-8EE6-57BAF389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6544-21B1-4CB9-ACE8-F84B8ABB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FDBD-CCF4-484A-95B7-4D4496E5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FD1D-7B2E-452C-8E52-72CA3A94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22F9-BEE6-4125-AA9F-A5212263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EBE0-D47B-442C-B86B-56435654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6BCE-E049-4DE2-8904-AE9F2646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9F44-046E-4FF9-B11C-738E401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116D-6111-458A-A192-74B0345D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BBF0-F1B1-45B5-9142-AF6376F9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20C7-AB0B-4CFA-8B56-D07A3A0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51F4-EBFF-4C1E-9A0D-7569224D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8F29-8804-402A-8B48-72371349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C155-858A-4030-89D2-69E264D5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FA8C-AC26-4B10-8441-71E6856D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9215-41E9-4F62-B0FE-075E21E8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D2BD-127D-48EC-BF9F-BF343C13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4765-26D4-42EC-A2BA-557E9D4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6E7C-FCD8-4A3E-AB31-B24D52F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D1AF-926C-4661-BE0A-F0C50E83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B571-4BE2-412F-9533-454D44BE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810E-1A7D-4EE0-A352-96627E9EFC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4DD9-7387-4574-86D8-E22B33F697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348000" y="4797360"/>
            <a:ext cx="56167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яева Соф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Б-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5734080"/>
          <a:ext cx="431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8388360" y="3141720"/>
          <a:ext cx="21744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8360" y="3141720"/>
                    <a:ext cx="21744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403280" y="3933720"/>
          <a:ext cx="1263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33720"/>
                    <a:ext cx="1263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7885080" y="6093000"/>
          <a:ext cx="7048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6093000"/>
                    <a:ext cx="7048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539640" y="189000"/>
          <a:ext cx="50976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89000"/>
                    <a:ext cx="509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5940360" y="0"/>
          <a:ext cx="503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0"/>
                    <a:ext cx="503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7380360" y="189000"/>
          <a:ext cx="164880" cy="20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189000"/>
                    <a:ext cx="164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7596360" y="0"/>
          <a:ext cx="223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0"/>
                    <a:ext cx="223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7740720" y="404640"/>
          <a:ext cx="164880" cy="20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04640"/>
                    <a:ext cx="1648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95280" y="1125360"/>
            <a:ext cx="8302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620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376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63640" y="26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Теор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разбиения сосудов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асширение Вселенн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одтверждающее правильность выводов Фрид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альнейшая эволюция Вселенно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ленна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844280"/>
            <a:ext cx="55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селен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тагалактико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universe"/>
          <p:cNvPicPr/>
          <p:nvPr/>
        </p:nvPicPr>
        <p:blipFill>
          <a:blip r:embed="rId1"/>
          <a:stretch/>
        </p:blipFill>
        <p:spPr>
          <a:xfrm>
            <a:off x="324000" y="1989000"/>
            <a:ext cx="2881080" cy="20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2"/>
          <p:cNvGraphicFramePr/>
          <p:nvPr/>
        </p:nvGraphicFramePr>
        <p:xfrm>
          <a:off x="0" y="0"/>
          <a:ext cx="2714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1258920" y="5157720"/>
          <a:ext cx="43164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15772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2195640" y="6021360"/>
          <a:ext cx="21564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602136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179280" y="6381720"/>
          <a:ext cx="216000" cy="2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638172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700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0007q8z3"/>
          <p:cNvPicPr/>
          <p:nvPr/>
        </p:nvPicPr>
        <p:blipFill>
          <a:blip r:embed="rId1"/>
          <a:stretch/>
        </p:blipFill>
        <p:spPr>
          <a:xfrm>
            <a:off x="179280" y="1241280"/>
            <a:ext cx="1943280" cy="14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m46n2438_ritter"/>
          <p:cNvPicPr/>
          <p:nvPr/>
        </p:nvPicPr>
        <p:blipFill>
          <a:blip r:embed="rId2"/>
          <a:stretch/>
        </p:blipFill>
        <p:spPr>
          <a:xfrm>
            <a:off x="179280" y="2808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74773"/>
          <p:cNvPicPr/>
          <p:nvPr/>
        </p:nvPicPr>
        <p:blipFill>
          <a:blip r:embed="rId3"/>
          <a:stretch/>
        </p:blipFill>
        <p:spPr>
          <a:xfrm>
            <a:off x="179280" y="4292640"/>
            <a:ext cx="194472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дерную капл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ории Происхождения Вселенно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Большого взры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: «Бесконечно пульсирующая Вселенна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еацион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«Разбиение сосудов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708360" y="4221000"/>
          <a:ext cx="2160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22100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796000" y="5445000"/>
            <a:ext cx="2302920" cy="1057320"/>
            <a:chOff x="5796000" y="5445000"/>
            <a:chExt cx="2302920" cy="1057320"/>
          </a:xfrm>
        </p:grpSpPr>
        <p:graphicFrame>
          <p:nvGraphicFramePr>
            <p:cNvPr id="153" name="Object 5"/>
            <p:cNvGraphicFramePr/>
            <p:nvPr/>
          </p:nvGraphicFramePr>
          <p:xfrm>
            <a:off x="7162560" y="6286320"/>
            <a:ext cx="215640" cy="2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628632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6"/>
            <p:cNvGraphicFramePr/>
            <p:nvPr/>
          </p:nvGraphicFramePr>
          <p:xfrm>
            <a:off x="7738920" y="6286320"/>
            <a:ext cx="215280" cy="2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8920" y="6286320"/>
                      <a:ext cx="2152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7"/>
            <p:cNvGraphicFramePr/>
            <p:nvPr/>
          </p:nvGraphicFramePr>
          <p:xfrm>
            <a:off x="7162560" y="5927400"/>
            <a:ext cx="215640" cy="21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56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7883280" y="5927400"/>
            <a:ext cx="215640" cy="21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8328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9"/>
            <p:cNvGraphicFramePr/>
            <p:nvPr/>
          </p:nvGraphicFramePr>
          <p:xfrm>
            <a:off x="6875280" y="5783040"/>
            <a:ext cx="14400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75280" y="578304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0"/>
            <p:cNvGraphicFramePr/>
            <p:nvPr/>
          </p:nvGraphicFramePr>
          <p:xfrm>
            <a:off x="6587640" y="5600520"/>
            <a:ext cx="14256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7640" y="560052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1"/>
            <p:cNvGraphicFramePr/>
            <p:nvPr/>
          </p:nvGraphicFramePr>
          <p:xfrm>
            <a:off x="6227280" y="5445000"/>
            <a:ext cx="142560" cy="14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7280" y="544500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5796000" y="5638680"/>
            <a:ext cx="144000" cy="14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96000" y="563868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большого взры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84360" y="1699920"/>
            <a:ext cx="61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240px-Universe_expansion_rus"/>
          <p:cNvPicPr/>
          <p:nvPr/>
        </p:nvPicPr>
        <p:blipFill>
          <a:blip r:embed="rId1"/>
          <a:stretch/>
        </p:blipFill>
        <p:spPr>
          <a:xfrm>
            <a:off x="324000" y="1844640"/>
            <a:ext cx="2171520" cy="2736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стали образовывать сгущения и из них образовались звезд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образуются при взрыве новых и сверх новых звезд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результате нагрева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(менее раскаленный). Остывший – земную кор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конечно пульсирующая Вселенна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ацио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044720" y="242100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8:00:09Z</dcterms:created>
  <dc:creator>home</dc:creator>
  <dc:description/>
  <dc:language>en-US</dc:language>
  <cp:lastModifiedBy>LEGION</cp:lastModifiedBy>
  <dcterms:modified xsi:type="dcterms:W3CDTF">2015-01-12T09:20:33Z</dcterms:modified>
  <cp:revision>11</cp:revision>
  <dc:subject/>
  <dc:title>Слайд 1</dc:title>
</cp:coreProperties>
</file>